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90D-CAFB-4047-BE47-D4B068AA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C2E-159E-4852-BA9B-37635A2D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700-F4B8-4C43-A9CB-DD387877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82A-7272-4872-9185-E9D2F8C0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CD6-1F89-42A6-ACD7-51123C2D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C5B-82DB-4546-8DBD-DF221F3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F6C-6595-447C-A857-EB45E779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41C-27FD-43FB-8D7A-72DDA42E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0FD-3353-4643-9EF5-5BC46929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0C7-D5B1-4E0B-8699-42F6EAA4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A62-4659-42F9-9A9A-EE2EFD24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5D3-2C31-4CA5-8E14-77B76F02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E884-C154-4F6C-AEE6-1624B2A86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 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2 de marz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e intere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oking at the pictures on the bottom of p. 24,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 juegan México y Hondu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juegan México y Hondu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 jue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.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.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leta p.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leta p.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5:48:13Z</dcterms:created>
  <dc:creator>Helen Zumaeta</dc:creator>
  <dc:description/>
  <dc:language>en-US</dc:language>
  <cp:lastModifiedBy>Helen Zumaeta</cp:lastModifiedBy>
  <cp:lastPrinted>2013-03-12T12:58:24Z</cp:lastPrinted>
  <dcterms:modified xsi:type="dcterms:W3CDTF">2013-03-12T13:16:38Z</dcterms:modified>
  <cp:revision>11</cp:revision>
  <dc:subject/>
  <dc:title>Me llamo ________ Clase 6 nh/il La fecha es el 13 de junio del 2011</dc:title>
</cp:coreProperties>
</file>